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C46-C1C9-41F3-BD04-4081DB63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DB7-2731-49CB-9A5B-A303B8F1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D0E-0B2A-4801-B255-08E3DC87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23B-AED5-46AC-916F-BD1CF814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257-5FBB-4AD1-826B-23B8697E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33F-9AC9-4615-98F0-BA4575A9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CD9-202E-4DCA-B836-2C2F598A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2F7-07D0-4D85-9023-9E02638A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E7F-729E-4A07-8446-25588EAE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415-A8B1-4F4C-BD19-B64CCCA9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BBC-014D-435B-9467-4770A893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887-72B6-4496-9624-BBC8651B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A4A0-C616-42AD-A52B-BB22B3801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nsterenergy.com/web/guest/noflash?url=http%3A%2F%2Fwww.monsterenergy.com%2Fweb%2Fguest%2Fhome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MONSTER ENERGIZED!!!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Question?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What are peoples favorite Monster Energy drink?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I think that people will like Assault the best. Because it is cherry flavored and everyone likes cherry.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1. Collect all materials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2. Take one tester into a testing room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3. Have the tester drink one of the flavors of monster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4. After they drink the monster have them take a drink of water to get rid of the last taste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5. Then repeat steps 3 and 4 with that person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6. After that do steps 3 through 5 with the other testers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7. Finally gather result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Independent Variable- The different flavors.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Dependent Variable- Which flavor they choose.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ontrolled Variable- The same kind of Monster for every person.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Major Observations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Heath- Green, Khaos, Assult. 2nd- Green, Assult, Khaos. </a:t>
            </a: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Jed- Assult, Green, Khaos. 2nd- Green, Assult, Khaos. </a:t>
            </a: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Micheal- Assult, Khaos, Green. 2nd- Assult, Khaos, Green. </a:t>
            </a: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Hunter- Khaos, Green, Assult. 2nd- Khaos, Green, Assult. </a:t>
            </a: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rey- Green, Assult, Khaos. 2nd- Green, Assult, Khaos.</a:t>
            </a: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Wyatt- Assult, Khaos, Green. 2nd- Assult Green Assult.</a:t>
            </a:r>
            <a:br>
              <a:rPr sz="2800"/>
            </a:b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My hypothesis was correct 3 out of 6 liked Assault the best. Then Khaos was 2nd again 3 out of 6 people liked it second. The rest were not consistent.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auses Of Error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People have a favorite kind that they already drink. 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URL’S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nsterenergy.com/web/guest/noflash?url=http%3A%2F%2Fwww.monsterenergy.com%2Fweb%2Fguest%2Fhome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http://en.wikipedia.org/wiki/Monster_Energy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17:08Z</dcterms:created>
  <dc:creator>USD376</dc:creator>
  <dc:description/>
  <dc:language>en-US</dc:language>
  <cp:lastModifiedBy>USD376</cp:lastModifiedBy>
  <dcterms:modified xsi:type="dcterms:W3CDTF">2010-03-02T16:08:04Z</dcterms:modified>
  <cp:revision>4</cp:revision>
  <dc:subject/>
  <dc:title>MONSTER ENERGIZED!!!</dc:title>
</cp:coreProperties>
</file>